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10158413" cy="7621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7A34-4ECB-43DA-8A09-6F95DEC9D406}" type="slidenum">
              <a:rPr b="0" lang="it-IT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IRE CHE AL VARIARE DI BETA NON C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91C1-B1B0-4456-AEA0-F1A901EDF818}" type="slidenum">
              <a:rPr b="0" lang="it-IT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marL="92520" indent="-9252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200520" indent="-7704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308520" indent="-615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32000" indent="-615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8000"/>
          </a:bodyPr>
          <a:p>
            <a:pPr marL="267480" indent="-2674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marL="579240" indent="-22284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marL="891360" indent="-1782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marL="1248120" indent="-1782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marL="1604520" indent="-1782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marL="1604520" indent="-1782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marL="1604520" indent="-1782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8000"/>
          </a:bodyPr>
          <a:p>
            <a:pPr marL="267480" indent="-2674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marL="579240" indent="-22284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marL="891360" indent="-1782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marL="1248120" indent="-1782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marL="1604520" indent="-1782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marL="1604520" indent="-1782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marL="1604520" indent="-1782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16000" y="76320"/>
            <a:ext cx="400680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Orifici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N - Roma Tre  &amp; Roma Tre Universit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6718320" y="25560"/>
            <a:ext cx="3365640" cy="9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VIII International Symposium on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tice Field Theor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simius, Italy, June 14-19, 2010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333440" y="990720"/>
            <a:ext cx="7480440" cy="1206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(2) ChPT analysis of the scalar and vector form factors of the kaon semileptonic decay obtained from twisted-mass fermions with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7873920" y="3340080"/>
            <a:ext cx="2048040" cy="205740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5"/>
          <p:cNvSpPr/>
          <p:nvPr/>
        </p:nvSpPr>
        <p:spPr>
          <a:xfrm>
            <a:off x="7721640" y="2819520"/>
            <a:ext cx="2362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behalf of th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88800" y="3166920"/>
            <a:ext cx="3048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150840" y="4595760"/>
            <a:ext cx="80722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ing study of 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4 values of a (0.054,0.068,0.086,0.102 fm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(2) ChPT  extrapolation of f+(0) at the physical poin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e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(2) ChPT analysis of the 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pendence of  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M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tion of the vector form factor: </a:t>
            </a:r>
            <a:r>
              <a:rPr b="0" i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800" spc="-1" strike="noStrike" baseline="-6000">
                <a:solidFill>
                  <a:srgbClr val="d90b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(0) = 0.9554 (73)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ibbo’s angle: </a:t>
            </a:r>
            <a:r>
              <a:rPr b="0" i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|V</a:t>
            </a:r>
            <a:r>
              <a:rPr b="0" i="1" lang="en-US" sz="1800" spc="-1" strike="noStrike" baseline="-6000">
                <a:solidFill>
                  <a:srgbClr val="d90b00"/>
                </a:solidFill>
                <a:latin typeface="Times New Roman"/>
                <a:ea typeface="Times New Roman"/>
              </a:rPr>
              <a:t>us</a:t>
            </a:r>
            <a:r>
              <a:rPr b="0" i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| = 0.2264 (5)</a:t>
            </a:r>
            <a:r>
              <a:rPr b="0" i="1" lang="en-US" sz="1800" spc="-1" strike="noStrike" baseline="-6000">
                <a:solidFill>
                  <a:srgbClr val="d90b00"/>
                </a:solidFill>
                <a:latin typeface="Times New Roman"/>
                <a:ea typeface="Times New Roman"/>
              </a:rPr>
              <a:t>exp</a:t>
            </a:r>
            <a:r>
              <a:rPr b="0" i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(18)</a:t>
            </a:r>
            <a:r>
              <a:rPr b="0" i="1" lang="en-US" sz="1800" spc="-1" strike="noStrike" baseline="-6000">
                <a:solidFill>
                  <a:srgbClr val="d90b00"/>
                </a:solidFill>
                <a:latin typeface="Times New Roman"/>
                <a:ea typeface="Times New Roman"/>
              </a:rPr>
              <a:t>f+(0)</a:t>
            </a:r>
            <a:r>
              <a:rPr b="0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-row CKM unitarity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|V</a:t>
            </a:r>
            <a:r>
              <a:rPr b="0" i="1" lang="en-US" sz="1800" spc="-1" strike="noStrike" baseline="-6000">
                <a:solidFill>
                  <a:srgbClr val="d90b00"/>
                </a:solidFill>
                <a:latin typeface="Times New Roman"/>
                <a:ea typeface="Times New Roman"/>
              </a:rPr>
              <a:t>ud</a:t>
            </a:r>
            <a:r>
              <a:rPr b="0" i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|</a:t>
            </a:r>
            <a:r>
              <a:rPr b="0" i="1" lang="en-US" sz="1800" spc="-1" strike="noStrike" baseline="32000">
                <a:solidFill>
                  <a:srgbClr val="d90b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+ |V</a:t>
            </a:r>
            <a:r>
              <a:rPr b="0" i="1" lang="en-US" sz="1800" spc="-1" strike="noStrike" baseline="-6000">
                <a:solidFill>
                  <a:srgbClr val="d90b00"/>
                </a:solidFill>
                <a:latin typeface="Times New Roman"/>
                <a:ea typeface="Times New Roman"/>
              </a:rPr>
              <a:t>us</a:t>
            </a:r>
            <a:r>
              <a:rPr b="0" i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|</a:t>
            </a:r>
            <a:r>
              <a:rPr b="0" i="1" lang="en-US" sz="1800" spc="-1" strike="noStrike" baseline="32000">
                <a:solidFill>
                  <a:srgbClr val="d90b00"/>
                </a:solidFill>
                <a:latin typeface="Times New Roman"/>
                <a:ea typeface="Times New Roman"/>
              </a:rPr>
              <a:t>2  + </a:t>
            </a:r>
            <a:r>
              <a:rPr b="0" i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|V</a:t>
            </a:r>
            <a:r>
              <a:rPr b="0" i="1" lang="en-US" sz="1800" spc="-1" strike="noStrike" baseline="-6000">
                <a:solidFill>
                  <a:srgbClr val="d90b00"/>
                </a:solidFill>
                <a:latin typeface="Times New Roman"/>
                <a:ea typeface="Times New Roman"/>
              </a:rPr>
              <a:t>ub</a:t>
            </a:r>
            <a:r>
              <a:rPr b="0" i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|</a:t>
            </a:r>
            <a:r>
              <a:rPr b="0" i="1" lang="en-US" sz="1800" spc="-1" strike="noStrike" baseline="32000">
                <a:solidFill>
                  <a:srgbClr val="d90b00"/>
                </a:solidFill>
                <a:latin typeface="Times New Roman"/>
                <a:ea typeface="Times New Roman"/>
              </a:rPr>
              <a:t>2  </a:t>
            </a:r>
            <a:r>
              <a:rPr b="0" i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= 1.0003(12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-27000" y="2381400"/>
            <a:ext cx="98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llaboration with:  V.Lubicz , F. Mescia, S. Simula, C. Tarantino a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0" name="Group 13"/>
          <p:cNvGrpSpPr/>
          <p:nvPr/>
        </p:nvGrpSpPr>
        <p:grpSpPr>
          <a:xfrm>
            <a:off x="507960" y="3952800"/>
            <a:ext cx="3868920" cy="432000"/>
            <a:chOff x="507960" y="3952800"/>
            <a:chExt cx="3868920" cy="432000"/>
          </a:xfrm>
        </p:grpSpPr>
        <p:sp>
          <p:nvSpPr>
            <p:cNvPr id="541" name="Rectangle 9"/>
            <p:cNvSpPr/>
            <p:nvPr/>
          </p:nvSpPr>
          <p:spPr>
            <a:xfrm>
              <a:off x="507960" y="3952800"/>
              <a:ext cx="1638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90000" tIns="50760" bIns="5076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K</a:t>
              </a:r>
              <a:r>
                <a:rPr b="0" lang="en-US" sz="2000" spc="-1" strike="noStrike" u="sng" baseline="-6000">
                  <a:solidFill>
                    <a:srgbClr val="000000"/>
                  </a:solidFill>
                  <a:uFillTx/>
                  <a:latin typeface="MT Extra"/>
                  <a:ea typeface="MT Extra"/>
                </a:rPr>
                <a:t></a:t>
              </a:r>
              <a:r>
                <a:rPr b="1" lang="en-US" sz="2000" spc="-1" strike="noStrike" u="sng" baseline="-6000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3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decay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2" name="Rectangle 12"/>
            <p:cNvSpPr/>
            <p:nvPr/>
          </p:nvSpPr>
          <p:spPr>
            <a:xfrm>
              <a:off x="2141640" y="3971520"/>
              <a:ext cx="22352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Xiv:0906.4728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43" name="Right Arrow 12"/>
          <p:cNvSpPr/>
          <p:nvPr/>
        </p:nvSpPr>
        <p:spPr>
          <a:xfrm flipH="1">
            <a:off x="7008120" y="6024600"/>
            <a:ext cx="857160" cy="2142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7899120" y="595296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Gill Sans"/>
              </a:rPr>
              <a:t>preliminar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7" descr=""/>
          <p:cNvPicPr/>
          <p:nvPr/>
        </p:nvPicPr>
        <p:blipFill>
          <a:blip r:embed="rId1"/>
          <a:stretch/>
        </p:blipFill>
        <p:spPr>
          <a:xfrm>
            <a:off x="-7993080" y="3024360"/>
            <a:ext cx="5178600" cy="77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5" name="Object 8"/>
              <p:cNvSpPr txBox="1"/>
              <p:nvPr/>
            </p:nvSpPr>
            <p:spPr>
              <a:xfrm>
                <a:off x="1650960" y="5881680"/>
                <a:ext cx="64040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6" name="Rectangle 9"/>
          <p:cNvSpPr/>
          <p:nvPr/>
        </p:nvSpPr>
        <p:spPr>
          <a:xfrm>
            <a:off x="8080200" y="60958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cc"/>
                </a:solidFill>
                <a:latin typeface="Times New Roman"/>
                <a:ea typeface="Times New Roman"/>
              </a:rPr>
              <a:t>[Flynn and Sachrajda ‘09]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7" name="Picture 5" descr="plot f(0).png"/>
          <p:cNvPicPr/>
          <p:nvPr/>
        </p:nvPicPr>
        <p:blipFill>
          <a:blip r:embed="rId2"/>
          <a:stretch/>
        </p:blipFill>
        <p:spPr>
          <a:xfrm>
            <a:off x="1000080" y="1390680"/>
            <a:ext cx="7580520" cy="441972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3"/>
          <p:cNvSpPr/>
          <p:nvPr/>
        </p:nvSpPr>
        <p:spPr>
          <a:xfrm>
            <a:off x="3008160" y="411120"/>
            <a:ext cx="3786480" cy="46980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T Qual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TextBox 11"/>
          <p:cNvSpPr/>
          <p:nvPr/>
        </p:nvSpPr>
        <p:spPr>
          <a:xfrm>
            <a:off x="1579680" y="6738840"/>
            <a:ext cx="36432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it-IT" sz="21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PQ</a:t>
            </a: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0) = 0.9612 ± 0.0067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"/>
          <p:cNvSpPr/>
          <p:nvPr/>
        </p:nvSpPr>
        <p:spPr>
          <a:xfrm>
            <a:off x="2341440" y="380880"/>
            <a:ext cx="4953240" cy="47016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nching of the Strange Qua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403200" y="180972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imate from SU(3)-ChPT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403200" y="3362400"/>
            <a:ext cx="85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ince the impact of chiral logs 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f</a:t>
            </a:r>
            <a:r>
              <a:rPr b="0" i="1" lang="en-US" sz="18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P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urns out to be quite small, we estimate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635040" y="5381640"/>
            <a:ext cx="85881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e shift the central valu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δ</a:t>
            </a:r>
            <a:r>
              <a:rPr b="0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quench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0.005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e add (quadratically) to the systematic error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value Δ</a:t>
            </a:r>
            <a:r>
              <a:rPr b="0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quench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002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3794040" y="969840"/>
            <a:ext cx="18036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Xiv:0906.472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9"/>
              <p:cNvSpPr txBox="1"/>
              <p:nvPr/>
            </p:nvSpPr>
            <p:spPr>
              <a:xfrm>
                <a:off x="1387440" y="2381400"/>
                <a:ext cx="80503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8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xactly know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10"/>
              <p:cNvSpPr txBox="1"/>
              <p:nvPr/>
            </p:nvSpPr>
            <p:spPr>
              <a:xfrm>
                <a:off x="1436760" y="4167360"/>
                <a:ext cx="73580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f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Δ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p>
                        </m:sSup>
                      </m:num>
                      <m:den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f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Δ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"/>
          <p:cNvSpPr/>
          <p:nvPr/>
        </p:nvSpPr>
        <p:spPr>
          <a:xfrm>
            <a:off x="3355920" y="339840"/>
            <a:ext cx="3009960" cy="46980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MC Resul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453960" y="1380960"/>
            <a:ext cx="51976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vector form factor at zero momentum transf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453960" y="3513240"/>
            <a:ext cx="9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using the latest experimental result |V</a:t>
            </a:r>
            <a:r>
              <a:rPr b="0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2163 ± 0.0005 </a:t>
            </a:r>
            <a:r>
              <a:rPr b="0" lang="en-US" sz="1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(FLAVIANET ‘1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e gets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453960" y="4863960"/>
            <a:ext cx="8840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ombining with |V</a:t>
            </a:r>
            <a:r>
              <a:rPr b="0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u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= 0.97425 ± 0.00022 and |V</a:t>
            </a:r>
            <a:r>
              <a:rPr b="0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u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= 0.00393 ± 0.00036 </a:t>
            </a:r>
            <a:r>
              <a:rPr b="0" lang="en-US" sz="1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(PDG ’08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-row CKM unitarity is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-11993400" y="6661080"/>
            <a:ext cx="9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or a comparison with other determination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|V</a:t>
            </a:r>
            <a:r>
              <a:rPr b="0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see the</a:t>
            </a:r>
            <a:r>
              <a:rPr b="0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plenary talk by V. Lubic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669960" y="2870280"/>
            <a:ext cx="65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greement with other determinations at N</a:t>
            </a:r>
            <a:r>
              <a:rPr b="0" i="1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 2 and 2+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3" name="Picture 7" descr=""/>
          <p:cNvPicPr/>
          <p:nvPr/>
        </p:nvPicPr>
        <p:blipFill>
          <a:blip r:embed="rId1"/>
          <a:stretch/>
        </p:blipFill>
        <p:spPr>
          <a:xfrm>
            <a:off x="8458200" y="114480"/>
            <a:ext cx="1384200" cy="13078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11"/>
          <p:cNvSpPr/>
          <p:nvPr/>
        </p:nvSpPr>
        <p:spPr>
          <a:xfrm>
            <a:off x="1579680" y="2179800"/>
            <a:ext cx="69292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0) = 0.9554 ± 0.0067 ± 0.0028 = 0.9554 ± 0.0073  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TextBox 12"/>
          <p:cNvSpPr/>
          <p:nvPr/>
        </p:nvSpPr>
        <p:spPr>
          <a:xfrm>
            <a:off x="2722680" y="4108320"/>
            <a:ext cx="4572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us</a:t>
            </a: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.2264 ± 0.0005 ± 0.0018 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f+(0 )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TextBox 13"/>
          <p:cNvSpPr/>
          <p:nvPr/>
        </p:nvSpPr>
        <p:spPr>
          <a:xfrm>
            <a:off x="2589120" y="5894280"/>
            <a:ext cx="48484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V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ud</a:t>
            </a: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|+|V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us</a:t>
            </a: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|+|V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ub</a:t>
            </a: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|= 1.0003 ± 0.0012 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TextBox 13"/>
          <p:cNvSpPr/>
          <p:nvPr/>
        </p:nvSpPr>
        <p:spPr>
          <a:xfrm>
            <a:off x="8399520" y="218592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Gill Sans"/>
              </a:rPr>
              <a:t>(preliminar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2698920" y="108000"/>
            <a:ext cx="4952880" cy="46980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r and Vector Slo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5929200" y="4292640"/>
            <a:ext cx="40798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iaNet ’10 analysis of KLOE, KTeV, ISTRA+ and NA48 (no muons) experiment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TextBox 10"/>
          <p:cNvSpPr/>
          <p:nvPr/>
        </p:nvSpPr>
        <p:spPr>
          <a:xfrm>
            <a:off x="812520" y="33814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"/>
              </a:rPr>
              <a:t>Altra figura S+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1" name="Picture 12" descr="plot s0.png"/>
          <p:cNvPicPr/>
          <p:nvPr/>
        </p:nvPicPr>
        <p:blipFill>
          <a:blip r:embed="rId1"/>
          <a:stretch/>
        </p:blipFill>
        <p:spPr>
          <a:xfrm>
            <a:off x="71280" y="733320"/>
            <a:ext cx="5651640" cy="33908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3" descr="plot splus.png"/>
          <p:cNvPicPr/>
          <p:nvPr/>
        </p:nvPicPr>
        <p:blipFill>
          <a:blip r:embed="rId2"/>
          <a:stretch/>
        </p:blipFill>
        <p:spPr>
          <a:xfrm>
            <a:off x="79200" y="4167360"/>
            <a:ext cx="5643720" cy="342900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4"/>
          <p:cNvSpPr/>
          <p:nvPr/>
        </p:nvSpPr>
        <p:spPr>
          <a:xfrm>
            <a:off x="6080040" y="2666880"/>
            <a:ext cx="392904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1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M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i="1" lang="it-IT" sz="21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· s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 (15.7 ± 0.8 )·10</a:t>
            </a:r>
            <a:r>
              <a:rPr b="0" i="1" lang="it-IT" sz="21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3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1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M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i="1" lang="it-IT" sz="21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 s</a:t>
            </a:r>
            <a:r>
              <a:rPr b="0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(24.1 ± 1.1 ) ·10</a:t>
            </a:r>
            <a:r>
              <a:rPr b="0" i="1" lang="it-IT" sz="21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3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TextBox 15"/>
          <p:cNvSpPr/>
          <p:nvPr/>
        </p:nvSpPr>
        <p:spPr>
          <a:xfrm>
            <a:off x="6437160" y="5391000"/>
            <a:ext cx="292896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it-IT" sz="21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i="1" lang="it-IT" sz="21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0</a:t>
            </a:r>
            <a:r>
              <a:rPr b="0" i="1" lang="it-IT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 (15.90 ± 0.79 )·10</a:t>
            </a:r>
            <a:r>
              <a:rPr b="0" i="1" lang="it-IT" sz="21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-3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it-IT" sz="21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i="1" lang="it-IT" sz="21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+</a:t>
            </a:r>
            <a:r>
              <a:rPr b="0" i="1" lang="it-IT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(25.04 ± 0.82) ·10</a:t>
            </a:r>
            <a:r>
              <a:rPr b="0" i="1" lang="it-IT" sz="21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-3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3"/>
              <p:cNvSpPr txBox="1"/>
              <p:nvPr/>
            </p:nvSpPr>
            <p:spPr>
              <a:xfrm>
                <a:off x="5929200" y="1841400"/>
                <a:ext cx="40798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4"/>
          <p:cNvSpPr/>
          <p:nvPr/>
        </p:nvSpPr>
        <p:spPr>
          <a:xfrm>
            <a:off x="793800" y="6238800"/>
            <a:ext cx="3357360" cy="928800"/>
          </a:xfrm>
          <a:prstGeom prst="rect">
            <a:avLst/>
          </a:prstGeom>
          <a:solidFill>
            <a:srgbClr val="d1d1f0"/>
          </a:solidFill>
          <a:ln w="2556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Rectangle 33"/>
          <p:cNvSpPr/>
          <p:nvPr/>
        </p:nvSpPr>
        <p:spPr>
          <a:xfrm>
            <a:off x="793800" y="3595680"/>
            <a:ext cx="7715160" cy="928800"/>
          </a:xfrm>
          <a:prstGeom prst="rect">
            <a:avLst/>
          </a:prstGeom>
          <a:solidFill>
            <a:srgbClr val="d1d1f0"/>
          </a:solidFill>
          <a:ln w="2556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Rectangle 32"/>
          <p:cNvSpPr/>
          <p:nvPr/>
        </p:nvSpPr>
        <p:spPr>
          <a:xfrm>
            <a:off x="793800" y="1595520"/>
            <a:ext cx="7715160" cy="785880"/>
          </a:xfrm>
          <a:prstGeom prst="rect">
            <a:avLst/>
          </a:prstGeom>
          <a:solidFill>
            <a:srgbClr val="d1d1f0"/>
          </a:solidFill>
          <a:ln w="25560">
            <a:solidFill>
              <a:srgbClr val="0070c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1"/>
          <p:cNvSpPr/>
          <p:nvPr/>
        </p:nvSpPr>
        <p:spPr>
          <a:xfrm>
            <a:off x="3365640" y="196920"/>
            <a:ext cx="3009600" cy="46980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ys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150840" y="952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ansion of the NLO SU(3) formulas of Gasser and Leutwyl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6794640" y="1166760"/>
            <a:ext cx="13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cc"/>
                </a:solidFill>
                <a:latin typeface="Times New Roman"/>
                <a:ea typeface="Times New Roman"/>
              </a:rPr>
              <a:t>[N.P. B250 ‘85]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5"/>
              <p:cNvSpPr txBox="1"/>
              <p:nvPr/>
            </p:nvSpPr>
            <p:spPr>
              <a:xfrm>
                <a:off x="912960" y="1595520"/>
                <a:ext cx="7345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πf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6"/>
              <p:cNvSpPr txBox="1"/>
              <p:nvPr/>
            </p:nvSpPr>
            <p:spPr>
              <a:xfrm>
                <a:off x="1722600" y="2595600"/>
                <a:ext cx="3439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"/>
              <p:cNvSpPr txBox="1"/>
              <p:nvPr/>
            </p:nvSpPr>
            <p:spPr>
              <a:xfrm>
                <a:off x="5437080" y="2595600"/>
                <a:ext cx="4356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8"/>
              <p:cNvSpPr txBox="1"/>
              <p:nvPr/>
            </p:nvSpPr>
            <p:spPr>
              <a:xfrm>
                <a:off x="8547120" y="1752480"/>
                <a:ext cx="1612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0"/>
              <p:cNvSpPr txBox="1"/>
              <p:nvPr/>
            </p:nvSpPr>
            <p:spPr>
              <a:xfrm>
                <a:off x="841320" y="3711600"/>
                <a:ext cx="74167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πf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12"/>
              <p:cNvSpPr txBox="1"/>
              <p:nvPr/>
            </p:nvSpPr>
            <p:spPr>
              <a:xfrm>
                <a:off x="1865160" y="4809960"/>
                <a:ext cx="3807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13"/>
              <p:cNvSpPr txBox="1"/>
              <p:nvPr/>
            </p:nvSpPr>
            <p:spPr>
              <a:xfrm>
                <a:off x="5865840" y="4809960"/>
                <a:ext cx="3720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Rectangle 23"/>
          <p:cNvSpPr/>
          <p:nvPr/>
        </p:nvSpPr>
        <p:spPr>
          <a:xfrm>
            <a:off x="4365720" y="5952960"/>
            <a:ext cx="5643360" cy="1381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4508640" y="645336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Chiral Log coeff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Left Brace 14"/>
          <p:cNvSpPr/>
          <p:nvPr/>
        </p:nvSpPr>
        <p:spPr>
          <a:xfrm>
            <a:off x="6794640" y="6095880"/>
            <a:ext cx="142560" cy="114300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1143000"/>
              <a:gd name="textAreaBottom" fmla="*/ 11394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5400" y="10800"/>
                  <a:pt x="0" y="10800"/>
                </a:cubicBezTo>
                <a:cubicBezTo>
                  <a:pt x="54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16200" y="21600"/>
                  <a:pt x="21600" y="21600"/>
                </a:cubicBezTo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14"/>
              <p:cNvSpPr txBox="1"/>
              <p:nvPr/>
            </p:nvSpPr>
            <p:spPr>
              <a:xfrm>
                <a:off x="6996240" y="6016680"/>
                <a:ext cx="27730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log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15"/>
              <p:cNvSpPr txBox="1"/>
              <p:nvPr/>
            </p:nvSpPr>
            <p:spPr>
              <a:xfrm>
                <a:off x="7027920" y="6667560"/>
                <a:ext cx="2481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log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84" name="Left Brace 24"/>
          <p:cNvSpPr/>
          <p:nvPr/>
        </p:nvSpPr>
        <p:spPr>
          <a:xfrm>
            <a:off x="8508960" y="166680"/>
            <a:ext cx="142920" cy="1143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143000"/>
              <a:gd name="textAreaBottom" fmla="*/ 11394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5400" y="10800"/>
                  <a:pt x="0" y="10800"/>
                </a:cubicBezTo>
                <a:cubicBezTo>
                  <a:pt x="54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ct 20"/>
              <p:cNvSpPr txBox="1"/>
              <p:nvPr/>
            </p:nvSpPr>
            <p:spPr>
              <a:xfrm>
                <a:off x="8729640" y="23760"/>
                <a:ext cx="92232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TextBox 26"/>
          <p:cNvSpPr/>
          <p:nvPr/>
        </p:nvSpPr>
        <p:spPr>
          <a:xfrm>
            <a:off x="419400" y="17384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TextBox 27"/>
          <p:cNvSpPr/>
          <p:nvPr/>
        </p:nvSpPr>
        <p:spPr>
          <a:xfrm>
            <a:off x="419400" y="3797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TextBox 28"/>
          <p:cNvSpPr/>
          <p:nvPr/>
        </p:nvSpPr>
        <p:spPr>
          <a:xfrm>
            <a:off x="406800" y="65120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22"/>
              <p:cNvSpPr txBox="1"/>
              <p:nvPr/>
            </p:nvSpPr>
            <p:spPr>
              <a:xfrm>
                <a:off x="860400" y="6310440"/>
                <a:ext cx="3148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acc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π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0" name="Rectangle 2"/>
          <p:cNvSpPr/>
          <p:nvPr/>
        </p:nvSpPr>
        <p:spPr>
          <a:xfrm>
            <a:off x="803160" y="572760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an-Treiman rel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1793880" y="315612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 ,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 : unknown LEC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1936800" y="53704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 ,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 : unknown LEC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3"/>
          <p:cNvSpPr/>
          <p:nvPr/>
        </p:nvSpPr>
        <p:spPr>
          <a:xfrm>
            <a:off x="3436920" y="482760"/>
            <a:ext cx="3071880" cy="46980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T Qual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4" name="Picture 2" descr="f0_VS_Mp2_23.png"/>
          <p:cNvPicPr/>
          <p:nvPr/>
        </p:nvPicPr>
        <p:blipFill>
          <a:blip r:embed="rId1"/>
          <a:stretch/>
        </p:blipFill>
        <p:spPr>
          <a:xfrm>
            <a:off x="4680" y="1881360"/>
            <a:ext cx="5361120" cy="4143240"/>
          </a:xfrm>
          <a:prstGeom prst="rect">
            <a:avLst/>
          </a:prstGeom>
          <a:ln w="0">
            <a:noFill/>
          </a:ln>
        </p:spPr>
      </p:pic>
      <p:sp>
        <p:nvSpPr>
          <p:cNvPr id="695" name="TextBox 14"/>
          <p:cNvSpPr/>
          <p:nvPr/>
        </p:nvSpPr>
        <p:spPr>
          <a:xfrm>
            <a:off x="6723000" y="6095880"/>
            <a:ext cx="29289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it-IT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 (16.01 ± 0.8 )·10</a:t>
            </a:r>
            <a:r>
              <a:rPr b="0" i="1" lang="it-IT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it-IT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(23.78 ± 1.1 ) ·10</a:t>
            </a:r>
            <a:r>
              <a:rPr b="0" i="1" lang="it-IT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TextBox 14"/>
          <p:cNvSpPr/>
          <p:nvPr/>
        </p:nvSpPr>
        <p:spPr>
          <a:xfrm>
            <a:off x="365040" y="6122880"/>
            <a:ext cx="61437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i="1" lang="it-IT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it-IT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PQ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0) = 0.9604 ± 0.0073             V</a:t>
            </a:r>
            <a:r>
              <a:rPr b="0" i="1" lang="it-IT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us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0.2252 ± 0.0017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f</a:t>
            </a:r>
            <a:r>
              <a:rPr b="0" i="1" lang="it-IT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 f</a:t>
            </a:r>
            <a:r>
              <a:rPr b="0" i="1" lang="it-IT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)</a:t>
            </a:r>
            <a:r>
              <a:rPr b="0" i="1" lang="it-IT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PQ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.1899 ± 0.0079               V</a:t>
            </a:r>
            <a:r>
              <a:rPr b="0" i="1" lang="it-IT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us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0.2258 ± 0.001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7" name="Picture 5" descr="fp_VS_Mp2_34.png"/>
          <p:cNvPicPr/>
          <p:nvPr/>
        </p:nvPicPr>
        <p:blipFill>
          <a:blip r:embed="rId2"/>
          <a:stretch/>
        </p:blipFill>
        <p:spPr>
          <a:xfrm>
            <a:off x="4802040" y="1884240"/>
            <a:ext cx="5357880" cy="414036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2"/>
          <p:cNvSpPr/>
          <p:nvPr/>
        </p:nvSpPr>
        <p:spPr>
          <a:xfrm>
            <a:off x="722160" y="1380960"/>
            <a:ext cx="12146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ing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9"/>
              <p:cNvSpPr txBox="1"/>
              <p:nvPr/>
            </p:nvSpPr>
            <p:spPr>
              <a:xfrm>
                <a:off x="2222640" y="1238400"/>
                <a:ext cx="1617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11"/>
              <p:cNvSpPr txBox="1"/>
              <p:nvPr/>
            </p:nvSpPr>
            <p:spPr>
              <a:xfrm>
                <a:off x="4156200" y="1238400"/>
                <a:ext cx="1638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Object 18"/>
              <p:cNvSpPr txBox="1"/>
              <p:nvPr/>
            </p:nvSpPr>
            <p:spPr>
              <a:xfrm>
                <a:off x="6365880" y="1238400"/>
                <a:ext cx="250020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19"/>
              <p:cNvSpPr txBox="1"/>
              <p:nvPr/>
            </p:nvSpPr>
            <p:spPr>
              <a:xfrm>
                <a:off x="6365880" y="1738440"/>
                <a:ext cx="2479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s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703" name="Straight Arrow Connector 13"/>
          <p:cNvCxnSpPr/>
          <p:nvPr/>
        </p:nvCxnSpPr>
        <p:spPr>
          <a:xfrm>
            <a:off x="3007800" y="6310440"/>
            <a:ext cx="500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4" name="Straight Arrow Connector 16"/>
          <p:cNvCxnSpPr/>
          <p:nvPr/>
        </p:nvCxnSpPr>
        <p:spPr>
          <a:xfrm>
            <a:off x="3222360" y="6810480"/>
            <a:ext cx="500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793440" y="1881360"/>
            <a:ext cx="8178840" cy="107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"/>
              </a:rPr>
              <a:t>Figure cfr con l’analisi dispersiv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6" name="Picture 2" descr="plot_f+_phys.png"/>
          <p:cNvPicPr/>
          <p:nvPr/>
        </p:nvPicPr>
        <p:blipFill>
          <a:blip r:embed="rId1"/>
          <a:stretch/>
        </p:blipFill>
        <p:spPr>
          <a:xfrm>
            <a:off x="4937040" y="1309680"/>
            <a:ext cx="4937040" cy="49370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3" descr="plot_f0_phys.png"/>
          <p:cNvPicPr/>
          <p:nvPr/>
        </p:nvPicPr>
        <p:blipFill>
          <a:blip r:embed="rId2"/>
          <a:stretch/>
        </p:blipFill>
        <p:spPr>
          <a:xfrm>
            <a:off x="0" y="1309680"/>
            <a:ext cx="4929120" cy="492912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"/>
          <p:cNvSpPr/>
          <p:nvPr/>
        </p:nvSpPr>
        <p:spPr>
          <a:xfrm>
            <a:off x="2508120" y="339840"/>
            <a:ext cx="4953240" cy="46980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r and Vector Form Facto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TextBox 5"/>
          <p:cNvSpPr/>
          <p:nvPr/>
        </p:nvSpPr>
        <p:spPr>
          <a:xfrm>
            <a:off x="3336840" y="659592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"/>
              </a:rPr>
              <a:t>dispersive fit: Bernard et al. ‘09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1"/>
          <p:cNvSpPr/>
          <p:nvPr/>
        </p:nvSpPr>
        <p:spPr>
          <a:xfrm>
            <a:off x="3375000" y="82440"/>
            <a:ext cx="3403800" cy="47016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Rectangle 2"/>
          <p:cNvSpPr/>
          <p:nvPr/>
        </p:nvSpPr>
        <p:spPr>
          <a:xfrm>
            <a:off x="517680" y="825480"/>
            <a:ext cx="9205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K-meson semileptonic form factors has been calculated using unquenched ETMC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ge configurations with N</a:t>
            </a:r>
            <a:r>
              <a:rPr b="0" i="1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dynamical quark flavo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517680" y="2457360"/>
            <a:ext cx="6159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0" lang="en-US" sz="1800" spc="-1" strike="noStrike" u="sng" baseline="-6000">
                <a:solidFill>
                  <a:srgbClr val="000000"/>
                </a:solidFill>
                <a:uFillTx/>
                <a:latin typeface="MT Extra"/>
                <a:ea typeface="MT Extra"/>
              </a:rPr>
              <a:t></a:t>
            </a:r>
            <a:r>
              <a:rPr b="1" i="1" lang="en-US" sz="1800" spc="-1" strike="noStrike" u="sng" baseline="-6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ecay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w determination of the key hadronic quantit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936720" y="3549600"/>
            <a:ext cx="86612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the error includes the uncertainti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</a:t>
            </a:r>
            <a:r>
              <a:rPr b="0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chiral extrapol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formed using SU(2) ChPT, </a:t>
            </a:r>
            <a:r>
              <a:rPr b="0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finite size effec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discretization err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effects due to the </a:t>
            </a:r>
            <a:r>
              <a:rPr b="0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quenching of the strange quar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517680" y="178452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various volumes and lattice spacings with pion masses from ~ 260 to ~ 575 MeV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1838160" y="48704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abibbo’s angle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1838160" y="5370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irst-row CKM unitarity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7" name="Picture 10" descr=""/>
          <p:cNvPicPr/>
          <p:nvPr/>
        </p:nvPicPr>
        <p:blipFill>
          <a:blip r:embed="rId1"/>
          <a:stretch/>
        </p:blipFill>
        <p:spPr>
          <a:xfrm>
            <a:off x="8267760" y="5931000"/>
            <a:ext cx="1384200" cy="1307880"/>
          </a:xfrm>
          <a:prstGeom prst="rect">
            <a:avLst/>
          </a:prstGeom>
          <a:ln w="0">
            <a:noFill/>
          </a:ln>
        </p:spPr>
      </p:pic>
      <p:sp>
        <p:nvSpPr>
          <p:cNvPr id="718" name="TextBox 14"/>
          <p:cNvSpPr/>
          <p:nvPr/>
        </p:nvSpPr>
        <p:spPr>
          <a:xfrm>
            <a:off x="1579680" y="3036960"/>
            <a:ext cx="6929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+(0) = 0.9554 ± 0.0067 ± 0.0028 = 0.9554 ± 0.0073  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TextBox 15"/>
          <p:cNvSpPr/>
          <p:nvPr/>
        </p:nvSpPr>
        <p:spPr>
          <a:xfrm>
            <a:off x="4160880" y="5310360"/>
            <a:ext cx="4419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V</a:t>
            </a:r>
            <a:r>
              <a:rPr b="1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ud</a:t>
            </a:r>
            <a:r>
              <a:rPr b="1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|+|V</a:t>
            </a:r>
            <a:r>
              <a:rPr b="1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us</a:t>
            </a:r>
            <a:r>
              <a:rPr b="1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|+|V</a:t>
            </a:r>
            <a:r>
              <a:rPr b="1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ub</a:t>
            </a:r>
            <a:r>
              <a:rPr b="1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|= 1.0003 ± 0.0012 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TextBox 16"/>
          <p:cNvSpPr/>
          <p:nvPr/>
        </p:nvSpPr>
        <p:spPr>
          <a:xfrm>
            <a:off x="4151160" y="4822920"/>
            <a:ext cx="32148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i="1" lang="it-IT" sz="21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us</a:t>
            </a:r>
            <a:r>
              <a:rPr b="1" i="1" lang="it-IT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.2264 ± 0.0018 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563400" y="5881680"/>
            <a:ext cx="68742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0" lang="en-US" sz="1800" spc="-1" strike="noStrike" u="sng" baseline="-6000">
                <a:solidFill>
                  <a:srgbClr val="000000"/>
                </a:solidFill>
                <a:uFillTx/>
                <a:latin typeface="MT Extra"/>
                <a:ea typeface="MT Extra"/>
              </a:rPr>
              <a:t></a:t>
            </a:r>
            <a:r>
              <a:rPr b="1" i="1" lang="en-US" sz="1800" spc="-1" strike="noStrike" u="sng" baseline="-6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ecay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ture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Z-expansion for form factor momentum dependence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2+1+1 dynamical quark flavou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90360" y="285732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back-up slid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"/>
          <p:cNvSpPr/>
          <p:nvPr/>
        </p:nvSpPr>
        <p:spPr>
          <a:xfrm>
            <a:off x="812880" y="254160"/>
            <a:ext cx="85341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6ffd"/>
                </a:solidFill>
                <a:latin typeface="Times New Roman"/>
                <a:ea typeface="Times New Roman"/>
              </a:rPr>
              <a:t>ETMC strate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4" name="Picture 2" descr=""/>
          <p:cNvPicPr/>
          <p:nvPr/>
        </p:nvPicPr>
        <p:blipFill>
          <a:blip r:embed="rId1"/>
          <a:stretch/>
        </p:blipFill>
        <p:spPr>
          <a:xfrm>
            <a:off x="888840" y="1498680"/>
            <a:ext cx="6286680" cy="121896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3"/>
          <p:cNvSpPr/>
          <p:nvPr/>
        </p:nvSpPr>
        <p:spPr>
          <a:xfrm>
            <a:off x="495360" y="1041480"/>
            <a:ext cx="7942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ge 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ree-level Symanzik improved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- 8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/12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520560" y="3009960"/>
            <a:ext cx="7772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ionic 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wisted Wilson quarks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[Frezzotti, Grassi, Sint, Weisz ‘99]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Rectangle 5"/>
          <p:cNvSpPr/>
          <p:nvPr/>
        </p:nvSpPr>
        <p:spPr>
          <a:xfrm>
            <a:off x="6248520" y="4267080"/>
            <a:ext cx="2743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untwisted (bare) quark ma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is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are) quark ma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7620120" y="1828800"/>
            <a:ext cx="16002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ed by study of phase transition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1574640" y="5575320"/>
            <a:ext cx="4191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ximal tw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0" name="Picture 8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4622760" cy="647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9" descr=""/>
          <p:cNvPicPr/>
          <p:nvPr/>
        </p:nvPicPr>
        <p:blipFill>
          <a:blip r:embed="rId3"/>
          <a:stretch/>
        </p:blipFill>
        <p:spPr>
          <a:xfrm>
            <a:off x="1143000" y="3657600"/>
            <a:ext cx="2730600" cy="60948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0"/>
          <p:cNvSpPr/>
          <p:nvPr/>
        </p:nvSpPr>
        <p:spPr>
          <a:xfrm>
            <a:off x="6146640" y="5626080"/>
            <a:ext cx="24386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renormalized quark mass in the pure Wilson cas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AutoShape 11"/>
          <p:cNvSpPr/>
          <p:nvPr/>
        </p:nvSpPr>
        <p:spPr>
          <a:xfrm>
            <a:off x="5219640" y="568944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Rectangle 12"/>
          <p:cNvSpPr/>
          <p:nvPr/>
        </p:nvSpPr>
        <p:spPr>
          <a:xfrm>
            <a:off x="593640" y="6622920"/>
            <a:ext cx="84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automatic O(a)-improvement in tmQCD at maximal twist </a:t>
            </a:r>
            <a:r>
              <a:rPr b="0" lang="en-US" sz="1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(Frezzotti &amp; Rossi ’04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"/>
          <p:cNvSpPr/>
          <p:nvPr/>
        </p:nvSpPr>
        <p:spPr>
          <a:xfrm>
            <a:off x="415800" y="279360"/>
            <a:ext cx="3670560" cy="1387440"/>
          </a:xfrm>
          <a:prstGeom prst="rect">
            <a:avLst/>
          </a:prstGeom>
          <a:solidFill>
            <a:srgbClr val="a3d9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motivation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 V</a:t>
            </a:r>
            <a:r>
              <a:rPr b="0" lang="en-US" sz="24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K</a:t>
            </a:r>
            <a:r>
              <a:rPr b="0" lang="en-US" sz="2400" spc="-1" strike="noStrike" baseline="-17000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en-US" sz="2400" spc="-1" strike="noStrike" baseline="-17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ay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4651200" y="1681200"/>
            <a:ext cx="457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r f.f.          vector f.f.:</a:t>
            </a:r>
            <a:r>
              <a:rPr b="0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600" spc="-1" strike="noStrike" baseline="-6000">
                <a:solidFill>
                  <a:srgbClr val="d90b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(0) = f</a:t>
            </a:r>
            <a:r>
              <a:rPr b="0" i="1" lang="en-US" sz="1600" spc="-1" strike="noStrike" baseline="-6000">
                <a:solidFill>
                  <a:srgbClr val="d90b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(0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Line 4"/>
          <p:cNvSpPr/>
          <p:nvPr/>
        </p:nvSpPr>
        <p:spPr>
          <a:xfrm flipH="1">
            <a:off x="5008680" y="1452600"/>
            <a:ext cx="71280" cy="285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6151680" y="1452600"/>
            <a:ext cx="156960" cy="338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79200" y="2381400"/>
            <a:ext cx="1930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experiment: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6651720" y="2336760"/>
            <a:ext cx="25714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[FLAVIANET ’10 (1005.2323)]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79200" y="3505320"/>
            <a:ext cx="8229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PT expansion of the vector form factor at zero momentum transfer, </a:t>
            </a:r>
            <a:r>
              <a:rPr b="0" i="1" lang="en-US" sz="16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f</a:t>
            </a:r>
            <a:r>
              <a:rPr b="0" i="1" lang="en-US" sz="1600" spc="-1" strike="noStrike" baseline="-27000">
                <a:solidFill>
                  <a:srgbClr val="ff2712"/>
                </a:solidFill>
                <a:latin typeface="Times New Roman"/>
                <a:ea typeface="Times New Roman"/>
              </a:rPr>
              <a:t>+</a:t>
            </a:r>
            <a:r>
              <a:rPr b="0" i="1" lang="en-US" sz="16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(0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9"/>
          <p:cNvSpPr/>
          <p:nvPr/>
        </p:nvSpPr>
        <p:spPr>
          <a:xfrm>
            <a:off x="79200" y="4546440"/>
            <a:ext cx="690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L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ndependent of LECs, calculable in terms of M</a:t>
            </a:r>
            <a:r>
              <a:rPr b="0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0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f</a:t>
            </a:r>
            <a:r>
              <a:rPr b="0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10"/>
          <p:cNvSpPr/>
          <p:nvPr/>
        </p:nvSpPr>
        <p:spPr>
          <a:xfrm>
            <a:off x="108000" y="5092560"/>
            <a:ext cx="8543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NL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pends 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p</a:t>
            </a:r>
            <a:r>
              <a:rPr b="0" i="1" lang="en-US" sz="16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Cs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Post and Schilcher (‘01), Bijnens and Talavera (‘03)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11" descr=""/>
          <p:cNvPicPr/>
          <p:nvPr/>
        </p:nvPicPr>
        <p:blipFill>
          <a:blip r:embed="rId1"/>
          <a:stretch/>
        </p:blipFill>
        <p:spPr>
          <a:xfrm>
            <a:off x="6580080" y="4549680"/>
            <a:ext cx="1384560" cy="3319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2"/>
          <p:cNvSpPr/>
          <p:nvPr/>
        </p:nvSpPr>
        <p:spPr>
          <a:xfrm>
            <a:off x="7920" y="5549760"/>
            <a:ext cx="9929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 f</a:t>
            </a:r>
            <a:r>
              <a:rPr b="0" i="1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be obtained from the slope and curvature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600" spc="-1" strike="noStrike" baseline="-23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present data are not accurate enough *****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79200" y="6121440"/>
            <a:ext cx="8940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quark model [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twyler and Roos ’84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ymbol"/>
              </a:rPr>
              <a:t> = -0.016 ± 0.008    ⇒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961 ± 0.008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79200" y="6578640"/>
            <a:ext cx="8928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NNLO ChPT + 1/N</a:t>
            </a:r>
            <a:r>
              <a:rPr b="0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igliano et al. ’06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ymbol"/>
              </a:rPr>
              <a:t> = 0.007 ± 0.012     ⇒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984 ± 0.012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79200" y="7061040"/>
            <a:ext cx="8929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NNLO ChPT + disp. rel. [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amin et al. ’04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ymbol"/>
              </a:rPr>
              <a:t> = -0.003 ± 0.011    ⇒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974 ± 0.011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16"/>
          <p:cNvSpPr/>
          <p:nvPr/>
        </p:nvSpPr>
        <p:spPr>
          <a:xfrm>
            <a:off x="8794800" y="6121440"/>
            <a:ext cx="1500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cc"/>
                </a:solidFill>
                <a:latin typeface="Times New Roman"/>
                <a:ea typeface="Times New Roman"/>
              </a:rPr>
              <a:t>[used by PDG]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17"/>
          <p:cNvSpPr/>
          <p:nvPr/>
        </p:nvSpPr>
        <p:spPr>
          <a:xfrm>
            <a:off x="123840" y="2921040"/>
            <a:ext cx="7099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atch the experimental error one needs an accuracy of </a:t>
            </a:r>
            <a:r>
              <a:rPr b="0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~ 5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[1 - </a:t>
            </a:r>
            <a:r>
              <a:rPr b="0" i="1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600" spc="-1" strike="noStrike" baseline="-6000">
                <a:solidFill>
                  <a:srgbClr val="d90b00"/>
                </a:solidFill>
                <a:latin typeface="Times New Roman"/>
                <a:ea typeface="Times New Roman"/>
              </a:rPr>
              <a:t>+</a:t>
            </a:r>
            <a:r>
              <a:rPr b="0" i="1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(0)</a:t>
            </a:r>
            <a:r>
              <a:rPr b="0" lang="en-US" sz="16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1"/>
              <p:cNvSpPr txBox="1"/>
              <p:nvPr/>
            </p:nvSpPr>
            <p:spPr>
              <a:xfrm>
                <a:off x="1936800" y="2341440"/>
                <a:ext cx="4232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→</m:t>
                    </m:r>
                    <m:r>
                      <m:t xml:space="preserve">πl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ν</m:t>
                            </m:r>
                          </m:e>
                        </m:ba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63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21"/>
              <p:cNvSpPr txBox="1"/>
              <p:nvPr/>
            </p:nvSpPr>
            <p:spPr>
              <a:xfrm>
                <a:off x="4429080" y="380880"/>
                <a:ext cx="5437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π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/>
                          <m:sub>
                            <m:r>
                              <m:t xml:space="preserve">μ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⟩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22"/>
              <p:cNvSpPr txBox="1"/>
              <p:nvPr/>
            </p:nvSpPr>
            <p:spPr>
              <a:xfrm>
                <a:off x="4794120" y="912960"/>
                <a:ext cx="37148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23"/>
              <p:cNvSpPr txBox="1"/>
              <p:nvPr/>
            </p:nvSpPr>
            <p:spPr>
              <a:xfrm>
                <a:off x="1650960" y="3963960"/>
                <a:ext cx="6620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</m:e>
                    </m:acc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279360" y="4645080"/>
            <a:ext cx="19177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point correlators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233280" y="2881440"/>
            <a:ext cx="1917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point correlators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5342040" y="6829560"/>
            <a:ext cx="3809880" cy="40464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4"/>
          <p:cNvSpPr/>
          <p:nvPr/>
        </p:nvSpPr>
        <p:spPr>
          <a:xfrm>
            <a:off x="277920" y="6858000"/>
            <a:ext cx="5159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ocal interpolating PS fields and local vector current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279360" y="6156360"/>
            <a:ext cx="46609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uitable ratios of 3-point / 2-point correlator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0" name="Picture 6" descr=""/>
          <p:cNvPicPr/>
          <p:nvPr/>
        </p:nvPicPr>
        <p:blipFill>
          <a:blip r:embed="rId2"/>
          <a:stretch/>
        </p:blipFill>
        <p:spPr>
          <a:xfrm>
            <a:off x="4870440" y="6159600"/>
            <a:ext cx="2209680" cy="3459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3"/>
          <a:stretch/>
        </p:blipFill>
        <p:spPr>
          <a:xfrm>
            <a:off x="6937200" y="1238400"/>
            <a:ext cx="3213360" cy="2286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4"/>
          <a:stretch/>
        </p:blipFill>
        <p:spPr>
          <a:xfrm>
            <a:off x="-6278400" y="380880"/>
            <a:ext cx="3429000" cy="15717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9"/>
          <p:cNvSpPr/>
          <p:nvPr/>
        </p:nvSpPr>
        <p:spPr>
          <a:xfrm>
            <a:off x="289080" y="101520"/>
            <a:ext cx="5719680" cy="495360"/>
          </a:xfrm>
          <a:prstGeom prst="rect">
            <a:avLst/>
          </a:prstGeom>
          <a:solidFill>
            <a:srgbClr val="a3d9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leptonic form factors on the latti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1755720" y="2058840"/>
            <a:ext cx="432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of 2-point and 3-point correlators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5" name="Picture 11" descr=""/>
          <p:cNvPicPr/>
          <p:nvPr/>
        </p:nvPicPr>
        <p:blipFill>
          <a:blip r:embed="rId5"/>
          <a:stretch/>
        </p:blipFill>
        <p:spPr>
          <a:xfrm>
            <a:off x="-7350120" y="2738520"/>
            <a:ext cx="4929120" cy="1015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"/>
          <p:cNvPicPr/>
          <p:nvPr/>
        </p:nvPicPr>
        <p:blipFill>
          <a:blip r:embed="rId6"/>
          <a:stretch/>
        </p:blipFill>
        <p:spPr>
          <a:xfrm>
            <a:off x="-9661680" y="4381560"/>
            <a:ext cx="8455320" cy="173340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13"/>
          <p:cNvSpPr/>
          <p:nvPr/>
        </p:nvSpPr>
        <p:spPr>
          <a:xfrm>
            <a:off x="276120" y="1365120"/>
            <a:ext cx="8166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O(a)-improvement in tmQCD at maximal twi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(Frezzotti and Rossi ’04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276120" y="831960"/>
            <a:ext cx="86616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e-level Symanzik gauge action + tmQCD at maximal twist with N</a:t>
            </a:r>
            <a:r>
              <a:rPr b="1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(ETMC ’07, ‘08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6"/>
              <p:cNvSpPr txBox="1"/>
              <p:nvPr/>
            </p:nvSpPr>
            <p:spPr>
              <a:xfrm>
                <a:off x="2079720" y="2795760"/>
                <a:ext cx="50720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sub>
                          <m:sup/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π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π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e>
                        </m:acc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7"/>
              <p:cNvSpPr txBox="1"/>
              <p:nvPr/>
            </p:nvSpPr>
            <p:spPr>
              <a:xfrm>
                <a:off x="2151000" y="4595760"/>
                <a:ext cx="77868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Kπ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≡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sub>
                          <m:sup/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π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μ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∞</m:t>
                                </m:r>
                              </m:e>
                            </m:acc>
                          </m:e>
                        </m:eqAr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eqArr>
                    <m:r>
                      <m:t xml:space="preserve">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⟨</m:t>
                    </m:r>
                    <m:r>
                      <m:t xml:space="preserve">π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⟩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8"/>
              <p:cNvSpPr txBox="1"/>
              <p:nvPr/>
            </p:nvSpPr>
            <p:spPr>
              <a:xfrm>
                <a:off x="7151760" y="3381480"/>
                <a:ext cx="28558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3949560" y="139680"/>
            <a:ext cx="1676520" cy="469800"/>
          </a:xfrm>
          <a:prstGeom prst="rect">
            <a:avLst/>
          </a:prstGeom>
          <a:solidFill>
            <a:srgbClr val="ff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ETM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73200" y="812880"/>
          <a:ext cx="8242200" cy="4744800"/>
        </p:xfrm>
        <a:graphic>
          <a:graphicData uri="http://schemas.openxmlformats.org/drawingml/2006/table">
            <a:tbl>
              <a:tblPr/>
              <a:tblGrid>
                <a:gridCol w="757080"/>
                <a:gridCol w="968400"/>
                <a:gridCol w="1460520"/>
                <a:gridCol w="1432080"/>
                <a:gridCol w="1193760"/>
                <a:gridCol w="1209600"/>
                <a:gridCol w="1220760"/>
              </a:tblGrid>
              <a:tr h="3157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(f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r>
                        <a:rPr b="0" lang="en-US" sz="1400" spc="-1" strike="noStrike" baseline="-6000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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am</a:t>
                      </a:r>
                      <a:r>
                        <a:rPr b="0" lang="en-US" sz="1400" spc="-1" strike="noStrike" baseline="-6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•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400" spc="-1" strike="noStrike" baseline="-6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Me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400" spc="-1" strike="noStrike" baseline="-6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uge con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0.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0.0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1400" spc="-1" strike="noStrike" baseline="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1400" spc="-1" strike="noStrike" baseline="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1400" spc="-1" strike="noStrike" baseline="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1400" spc="-1" strike="noStrike" baseline="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1400" spc="-1" strike="noStrike" baseline="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1400" spc="-1" strike="noStrike" baseline="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1400" spc="-1" strike="noStrike" baseline="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0.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1400" spc="-1" strike="noStrike" baseline="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1400" spc="-1" strike="noStrike" baseline="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1400" spc="-1" strike="noStrike" baseline="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0.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1400" spc="-1" strike="noStrike" baseline="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4" name="Rectangle 208"/>
          <p:cNvSpPr/>
          <p:nvPr/>
        </p:nvSpPr>
        <p:spPr>
          <a:xfrm>
            <a:off x="647640" y="5667480"/>
            <a:ext cx="7075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 = 3.8: a m</a:t>
            </a:r>
            <a:r>
              <a:rPr b="0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 0.016, 0.020, 0.025, 0.030,0,036 } around a m</a:t>
            </a:r>
            <a:r>
              <a:rPr b="0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phy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0.020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 = 3.9: a m</a:t>
            </a:r>
            <a:r>
              <a:rPr b="0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 0.015, 0.022, 0.027, 0.032 } around a m</a:t>
            </a:r>
            <a:r>
              <a:rPr b="0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phy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0.018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 = 4.05: a m</a:t>
            </a:r>
            <a:r>
              <a:rPr b="0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 0.015, 0.018, 0.022, 0.026 } around a m</a:t>
            </a:r>
            <a:r>
              <a:rPr b="0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phy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0.015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 = 4.2: a m</a:t>
            </a:r>
            <a:r>
              <a:rPr b="0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 0.010, 0.012, 0.015, 0.019 } around a m</a:t>
            </a:r>
            <a:r>
              <a:rPr b="0" lang="en-US" sz="16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phy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 0.012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Rectangle 209"/>
          <p:cNvSpPr/>
          <p:nvPr/>
        </p:nvSpPr>
        <p:spPr>
          <a:xfrm>
            <a:off x="6480" y="6738840"/>
            <a:ext cx="10502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ll-to-all quark propagators evaluated with a stochastic method (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-end-trick </a:t>
            </a:r>
            <a:r>
              <a:rPr b="0" lang="en-US" sz="1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[UKQCD ’06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-boundary conditions to inject non-periodic momenta on the lattice </a:t>
            </a:r>
            <a:r>
              <a:rPr b="0" lang="en-US" sz="1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[Bedaque ‘04, Petronzio et al. ‘04]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579600" y="1558800"/>
            <a:ext cx="5867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SU(2) Ch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xpansion around the chiral point m</a:t>
            </a:r>
            <a:r>
              <a:rPr b="0" lang="en-US" sz="1800" spc="-1" strike="noStrike" baseline="-6000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6446880" y="159552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cc"/>
                </a:solidFill>
                <a:latin typeface="Times New Roman"/>
                <a:ea typeface="Times New Roman"/>
              </a:rPr>
              <a:t>[Flynn and Sachrajda ‘09]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619200" y="2187720"/>
            <a:ext cx="9175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strange quark does not satisfy chiral symmetry and the dependence on m</a:t>
            </a:r>
            <a:r>
              <a:rPr b="0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absorbed into the LEC’s of the effective theor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pplicability for </a:t>
            </a:r>
            <a:r>
              <a:rPr b="0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6000">
                <a:solidFill>
                  <a:srgbClr val="d90b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&lt;&lt; m</a:t>
            </a:r>
            <a:r>
              <a:rPr b="0" lang="en-US" sz="1800" spc="-1" strike="noStrike" baseline="-6000">
                <a:solidFill>
                  <a:srgbClr val="d90b00"/>
                </a:solidFill>
                <a:latin typeface="Times New Roman"/>
                <a:ea typeface="Times New Roman"/>
              </a:rPr>
              <a:t>s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Rectangle 1"/>
          <p:cNvSpPr/>
          <p:nvPr/>
        </p:nvSpPr>
        <p:spPr>
          <a:xfrm>
            <a:off x="293760" y="452520"/>
            <a:ext cx="3714840" cy="571320"/>
          </a:xfrm>
          <a:prstGeom prst="rect">
            <a:avLst/>
          </a:prstGeom>
          <a:solidFill>
            <a:srgbClr val="a3d97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(2) analys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936720" y="4330800"/>
            <a:ext cx="385740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terpol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get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+,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tarting from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+,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q2)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722160" y="3473280"/>
            <a:ext cx="14288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trategie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592" name="Straight Arrow Connector 14"/>
          <p:cNvCxnSpPr/>
          <p:nvPr/>
        </p:nvCxnSpPr>
        <p:spPr>
          <a:xfrm>
            <a:off x="4936680" y="4809600"/>
            <a:ext cx="17154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3" name="Left Brace 16"/>
          <p:cNvSpPr/>
          <p:nvPr/>
        </p:nvSpPr>
        <p:spPr>
          <a:xfrm>
            <a:off x="6865920" y="4309920"/>
            <a:ext cx="285840" cy="10573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57320"/>
              <a:gd name="textAreaBottom" fmla="*/ 1050120 h 10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3"/>
                  <a:pt x="10800" y="486"/>
                </a:cubicBezTo>
                <a:lnTo>
                  <a:pt x="10800" y="10314"/>
                </a:lnTo>
                <a:cubicBezTo>
                  <a:pt x="10800" y="10557"/>
                  <a:pt x="5400" y="10800"/>
                  <a:pt x="0" y="10800"/>
                </a:cubicBezTo>
                <a:cubicBezTo>
                  <a:pt x="5400" y="10800"/>
                  <a:pt x="10800" y="11043"/>
                  <a:pt x="10800" y="11286"/>
                </a:cubicBezTo>
                <a:lnTo>
                  <a:pt x="10800" y="21114"/>
                </a:lnTo>
                <a:cubicBezTo>
                  <a:pt x="10800" y="213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Rectangle 10"/>
          <p:cNvSpPr/>
          <p:nvPr/>
        </p:nvSpPr>
        <p:spPr>
          <a:xfrm>
            <a:off x="7151760" y="4309920"/>
            <a:ext cx="2428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iral analys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iscretization analys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10"/>
          <p:cNvSpPr/>
          <p:nvPr/>
        </p:nvSpPr>
        <p:spPr>
          <a:xfrm>
            <a:off x="5294160" y="4309920"/>
            <a:ext cx="1000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596" name="Straight Arrow Connector 21"/>
          <p:cNvCxnSpPr/>
          <p:nvPr/>
        </p:nvCxnSpPr>
        <p:spPr>
          <a:xfrm>
            <a:off x="3650760" y="6238440"/>
            <a:ext cx="17154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7" name="Left Brace 22"/>
          <p:cNvSpPr/>
          <p:nvPr/>
        </p:nvSpPr>
        <p:spPr>
          <a:xfrm>
            <a:off x="5722920" y="573876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6008760" y="5595840"/>
            <a:ext cx="24289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ys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LO Chiral analysis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iscretization analys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3722760" y="5738760"/>
            <a:ext cx="1643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 Combined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"/>
          <p:cNvSpPr/>
          <p:nvPr/>
        </p:nvSpPr>
        <p:spPr>
          <a:xfrm>
            <a:off x="2905200" y="120600"/>
            <a:ext cx="3898800" cy="46980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ion of </a:t>
            </a:r>
            <a:r>
              <a:rPr b="0" i="1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 baseline="-6000">
                <a:solidFill>
                  <a:srgbClr val="ff2712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(0; M</a:t>
            </a:r>
            <a:r>
              <a:rPr b="0" i="1" lang="en-US" sz="2400" spc="-1" strike="noStrike" baseline="-6000">
                <a:solidFill>
                  <a:srgbClr val="ff2712"/>
                </a:solidFill>
                <a:latin typeface="Times New Roman"/>
                <a:ea typeface="Times New Roman"/>
              </a:rPr>
              <a:t>K</a:t>
            </a:r>
            <a:r>
              <a:rPr b="0" i="1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, M</a:t>
            </a:r>
            <a:r>
              <a:rPr b="0" i="1" lang="en-US" sz="2400" spc="-1" strike="noStrike" baseline="-6000">
                <a:solidFill>
                  <a:srgbClr val="ff2712"/>
                </a:solidFill>
                <a:latin typeface="Times New Roman"/>
                <a:ea typeface="Times New Roman"/>
              </a:rPr>
              <a:t>π</a:t>
            </a:r>
            <a:r>
              <a:rPr b="0" i="1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8080200" y="1881360"/>
            <a:ext cx="18036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Xiv:0906.472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1"/>
          <a:stretch/>
        </p:blipFill>
        <p:spPr>
          <a:xfrm>
            <a:off x="1015920" y="977760"/>
            <a:ext cx="6934320" cy="4572000"/>
          </a:xfrm>
          <a:prstGeom prst="rect">
            <a:avLst/>
          </a:prstGeom>
          <a:ln w="0">
            <a:noFill/>
          </a:ln>
        </p:spPr>
      </p:pic>
      <p:sp>
        <p:nvSpPr>
          <p:cNvPr id="603" name="Line 6"/>
          <p:cNvSpPr/>
          <p:nvPr/>
        </p:nvSpPr>
        <p:spPr>
          <a:xfrm>
            <a:off x="1155600" y="63626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Line 7"/>
          <p:cNvSpPr/>
          <p:nvPr/>
        </p:nvSpPr>
        <p:spPr>
          <a:xfrm>
            <a:off x="5613480" y="6337440"/>
            <a:ext cx="876240" cy="12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9"/>
              <p:cNvSpPr txBox="1"/>
              <p:nvPr/>
            </p:nvSpPr>
            <p:spPr>
              <a:xfrm>
                <a:off x="1150920" y="6453360"/>
                <a:ext cx="30718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+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10"/>
              <p:cNvSpPr txBox="1"/>
              <p:nvPr/>
            </p:nvSpPr>
            <p:spPr>
              <a:xfrm>
                <a:off x="5592600" y="6595920"/>
                <a:ext cx="4202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1" descr=""/>
          <p:cNvPicPr/>
          <p:nvPr/>
        </p:nvPicPr>
        <p:blipFill>
          <a:blip r:embed="rId1"/>
          <a:stretch/>
        </p:blipFill>
        <p:spPr>
          <a:xfrm>
            <a:off x="647640" y="2603520"/>
            <a:ext cx="7112160" cy="46227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2"/>
          <p:cNvSpPr/>
          <p:nvPr/>
        </p:nvSpPr>
        <p:spPr>
          <a:xfrm>
            <a:off x="7894800" y="3613320"/>
            <a:ext cx="180324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Xiv:0906.472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838160" y="387360"/>
            <a:ext cx="6477120" cy="46980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oth interpolation at a reference kaon m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6"/>
              <p:cNvSpPr txBox="1"/>
              <p:nvPr/>
            </p:nvSpPr>
            <p:spPr>
              <a:xfrm>
                <a:off x="477720" y="1380960"/>
                <a:ext cx="9174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hys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hys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∝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hys</m:t>
                        </m:r>
                      </m:sup>
                    </m:sSubSup>
                    <m:r>
                      <m:t xml:space="preserve">⇒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p>
                    </m:sSubSup>
                    <m:r>
                      <m:t xml:space="preserve">≈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hy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18" descr="plot_f+(0)_black(FSE).png"/>
          <p:cNvPicPr/>
          <p:nvPr/>
        </p:nvPicPr>
        <p:blipFill>
          <a:blip r:embed="rId1"/>
          <a:stretch/>
        </p:blipFill>
        <p:spPr>
          <a:xfrm>
            <a:off x="365040" y="1666800"/>
            <a:ext cx="4500720" cy="45007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1"/>
          <p:cNvSpPr/>
          <p:nvPr/>
        </p:nvSpPr>
        <p:spPr>
          <a:xfrm>
            <a:off x="-7246800" y="0"/>
            <a:ext cx="3085920" cy="46980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ral extrapol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2"/>
          <a:stretch/>
        </p:blipFill>
        <p:spPr>
          <a:xfrm>
            <a:off x="-10279080" y="1428840"/>
            <a:ext cx="7686720" cy="162540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5"/>
          <p:cNvSpPr/>
          <p:nvPr/>
        </p:nvSpPr>
        <p:spPr>
          <a:xfrm>
            <a:off x="-5710320" y="2698920"/>
            <a:ext cx="227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enomenological fits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-11702880" y="4432320"/>
            <a:ext cx="5867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* SU(2) Ch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xpansion around the chiral point m</a:t>
            </a:r>
            <a:r>
              <a:rPr b="0" lang="en-US" sz="1800" spc="-1" strike="noStrike" baseline="-6000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6" name="Picture 7" descr=""/>
          <p:cNvPicPr/>
          <p:nvPr/>
        </p:nvPicPr>
        <p:blipFill>
          <a:blip r:embed="rId3"/>
          <a:stretch/>
        </p:blipFill>
        <p:spPr>
          <a:xfrm>
            <a:off x="-10825200" y="6102360"/>
            <a:ext cx="5178600" cy="77472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8"/>
          <p:cNvSpPr/>
          <p:nvPr/>
        </p:nvSpPr>
        <p:spPr>
          <a:xfrm>
            <a:off x="-5302080" y="6343560"/>
            <a:ext cx="283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same structure as in full QCD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9"/>
          <p:cNvSpPr/>
          <p:nvPr/>
        </p:nvSpPr>
        <p:spPr>
          <a:xfrm>
            <a:off x="-5635800" y="445284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cc"/>
                </a:solidFill>
                <a:latin typeface="Times New Roman"/>
                <a:ea typeface="Times New Roman"/>
              </a:rPr>
              <a:t>[Flynn and Sachrajda ‘09]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0"/>
          <p:cNvSpPr/>
          <p:nvPr/>
        </p:nvSpPr>
        <p:spPr>
          <a:xfrm>
            <a:off x="-11850840" y="4881600"/>
            <a:ext cx="97473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strange quark does not satisfy chiral symmetry and the dependence on m</a:t>
            </a:r>
            <a:r>
              <a:rPr b="0" lang="en-US" sz="18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absorbed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 the LEC’s of the effective theor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pplicability for </a:t>
            </a:r>
            <a:r>
              <a:rPr b="0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6000">
                <a:solidFill>
                  <a:srgbClr val="d90b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&lt;&lt; m</a:t>
            </a:r>
            <a:r>
              <a:rPr b="0" lang="en-US" sz="1800" spc="-1" strike="noStrike" baseline="-6000">
                <a:solidFill>
                  <a:srgbClr val="d90b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1"/>
          <p:cNvSpPr/>
          <p:nvPr/>
        </p:nvSpPr>
        <p:spPr>
          <a:xfrm>
            <a:off x="-2076840" y="1512360"/>
            <a:ext cx="80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 LEC’s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Line 12"/>
          <p:cNvSpPr/>
          <p:nvPr/>
        </p:nvSpPr>
        <p:spPr>
          <a:xfrm flipH="1">
            <a:off x="-3599280" y="1657440"/>
            <a:ext cx="1359000" cy="1508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2365200" y="1116000"/>
            <a:ext cx="14288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 facto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0"/>
          <p:cNvSpPr/>
          <p:nvPr/>
        </p:nvSpPr>
        <p:spPr>
          <a:xfrm>
            <a:off x="6937200" y="1116000"/>
            <a:ext cx="1643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s: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s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2031840" y="452520"/>
            <a:ext cx="6477120" cy="46980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 Size Effe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Rectangle 14"/>
          <p:cNvSpPr/>
          <p:nvPr/>
        </p:nvSpPr>
        <p:spPr>
          <a:xfrm>
            <a:off x="3865680" y="6381720"/>
            <a:ext cx="3429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&gt; 4 negligible F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626" name="Straight Arrow Connector 19"/>
          <p:cNvCxnSpPr/>
          <p:nvPr/>
        </p:nvCxnSpPr>
        <p:spPr>
          <a:xfrm flipH="1" flipV="1">
            <a:off x="3936600" y="5523840"/>
            <a:ext cx="572400" cy="857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27" name="Picture 19" descr="G:\To be modified\plot_slopes_black(FSE).png"/>
          <p:cNvPicPr/>
          <p:nvPr/>
        </p:nvPicPr>
        <p:blipFill>
          <a:blip r:embed="rId4"/>
          <a:stretch/>
        </p:blipFill>
        <p:spPr>
          <a:xfrm>
            <a:off x="5222880" y="1666800"/>
            <a:ext cx="450072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4" descr="plot_f+0_a2.png"/>
          <p:cNvPicPr/>
          <p:nvPr/>
        </p:nvPicPr>
        <p:blipFill>
          <a:blip r:embed="rId1"/>
          <a:stretch/>
        </p:blipFill>
        <p:spPr>
          <a:xfrm>
            <a:off x="222120" y="1646280"/>
            <a:ext cx="4857840" cy="48578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plot slopes (a2).png"/>
          <p:cNvPicPr/>
          <p:nvPr/>
        </p:nvPicPr>
        <p:blipFill>
          <a:blip r:embed="rId2"/>
          <a:stretch/>
        </p:blipFill>
        <p:spPr>
          <a:xfrm>
            <a:off x="5079960" y="1717560"/>
            <a:ext cx="4794120" cy="479448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10"/>
          <p:cNvSpPr/>
          <p:nvPr/>
        </p:nvSpPr>
        <p:spPr>
          <a:xfrm>
            <a:off x="2365200" y="1187280"/>
            <a:ext cx="1428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 facto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6937200" y="1238400"/>
            <a:ext cx="16434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s: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s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2103480" y="482760"/>
            <a:ext cx="6477120" cy="469800"/>
          </a:xfrm>
          <a:prstGeom prst="rect">
            <a:avLst/>
          </a:prstGeom>
          <a:solidFill>
            <a:srgbClr val="fff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tization Effe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1365120" y="681048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E. linear in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greement with O(a) improvement of Mtm-LQC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ttice 2010</dc:creator>
  <dc:description/>
  <dc:language>en-US</dc:language>
  <cp:lastModifiedBy>lattice 2010</cp:lastModifiedBy>
  <dcterms:modified xsi:type="dcterms:W3CDTF">2010-06-30T07:07:31Z</dcterms:modified>
  <cp:revision>297</cp:revision>
  <dc:subject/>
  <dc:title>Slide 1</dc:title>
</cp:coreProperties>
</file>